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1AE8-9D03-451B-91BA-4E2F299A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843-D533-4DCE-8A2C-18371DBB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D7C-FB46-417D-B595-17AA0E4C4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3200-F614-49BE-869A-AACC5DDA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43C-F524-4307-ABC0-0ED882B4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30F-079A-4829-955E-9D88514D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FA1-8128-4CFC-B477-BB4029FC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18A-42E2-4EA6-AE6D-FE157FC1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D50-D42A-427E-B656-0517D86C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152-AAC4-4D28-95E4-DC612E5F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EF4-CDA4-4917-A3F6-1655B289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132-8FE7-475A-9B93-AAEC1E2E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88CD-979E-4D8D-9B3C-4BDBD977C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s://ru.wikipedia.org/wiki/&#1044;&#1088;&#1077;&#1074;&#1085;&#1077;&#1088;&#1091;&#1089;&#1089;&#1082;&#1080;&#1081;_&#1103;&#1079;&#1099;&#1082;" TargetMode="External"/><Relationship Id="rId3" Type="http://schemas.openxmlformats.org/officeDocument/2006/relationships/hyperlink" Target="https://ru.wikipedia.org/wiki/&#1050;&#1091;&#1088;&#1080;&#1094;&#1072;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исание куклы в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родном костюм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3316944-e27f2d9f3c0ed32a"/>
          <p:cNvPicPr/>
          <p:nvPr/>
        </p:nvPicPr>
        <p:blipFill>
          <a:blip r:embed="rId1"/>
          <a:stretch/>
        </p:blipFill>
        <p:spPr>
          <a:xfrm>
            <a:off x="0" y="1628640"/>
            <a:ext cx="4948200" cy="4724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3b06b37ffefb"/>
          <p:cNvPicPr/>
          <p:nvPr/>
        </p:nvPicPr>
        <p:blipFill>
          <a:blip r:embed="rId2"/>
          <a:srcRect l="5988" t="0" r="2965" b="0"/>
          <a:stretch/>
        </p:blipFill>
        <p:spPr>
          <a:xfrm>
            <a:off x="4932360" y="1916280"/>
            <a:ext cx="386712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фографическ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.жение лица, румян.ц, кр.сивое,  бе.хитрос.ное, пр.ветливое, улыбч.вое, задумч.вое лицо, обр.млено 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ником* и шал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ю, алые гу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.косые глаза,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*, ш.лковая шаль, ра.шитая р.стительны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наментом* из з.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ых нитей, с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н* из ш.лка нежно – бежевого* о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нка*, ра.шитый по п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у кружевом, алой т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ьмой* с ж.лтыми цв.т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сные сапо.ки,радос.ное, яркое впеч.тление, н.родная тр.диц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рфографическая ра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ение лица, румя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, кр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вое,  б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итрос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е, пр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тливое, улыбч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е, задумч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е лицо, обр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лено 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ником и шал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ю,алые гу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ые глаза,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р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, ш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ё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ковая шаль, р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итая р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ительны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наментом из з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ых нитей, с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ан из ш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ё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ка нежно – бежевого о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нка, ра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итый по п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у кружевом, алой т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ьмой с ж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ё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тыми цв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м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сные сапо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ж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и,радос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е, яркое впеч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ление, н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дная тр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ц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удности при описан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знаки предмета существуют одновременно, а описывать их нужно последовательн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чем описывать то, что другие тоже видели ( психологическая трудность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ъективно или субъективно описать «предмет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68360" y="836640"/>
          <a:ext cx="8229600" cy="5832360"/>
        </p:xfrm>
        <a:graphic>
          <a:graphicData uri="http://schemas.openxmlformats.org/drawingml/2006/table">
            <a:tbl>
              <a:tblPr/>
              <a:tblGrid>
                <a:gridCol w="4032360"/>
                <a:gridCol w="4197240"/>
              </a:tblGrid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ное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ное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ёт полное точное представление о предмете и явлении.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орческое авторское восприятие, эмоционально окрашенное.</a:t>
                      </a:r>
                      <a:endParaRPr b="0" lang="en-US" sz="2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13"/>
          <p:cNvSpPr/>
          <p:nvPr/>
        </p:nvSpPr>
        <p:spPr>
          <a:xfrm>
            <a:off x="2771640" y="40464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2268360" y="26028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писание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9" name="Picture 15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1392120" cy="2686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6" descr=""/>
          <p:cNvPicPr/>
          <p:nvPr/>
        </p:nvPicPr>
        <p:blipFill>
          <a:blip r:embed="rId2"/>
          <a:stretch/>
        </p:blipFill>
        <p:spPr>
          <a:xfrm>
            <a:off x="6659640" y="3789360"/>
            <a:ext cx="187488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берём ключевые слова и выражения для описан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Лиц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нежный овал лица, румянец, красивое, выражение лица доброе, бесхитростное, приветливое, улыбчивое, задумчивое выражение лица, обрамлено кокошником и шал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лаз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большие, красивые, раскосые, голуб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ров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зогнут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о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тонкий, прям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Губы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алые, скромная улыб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42920" y="642960"/>
            <a:ext cx="2336760" cy="681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rcRect l="0" t="4565" r="0" b="0"/>
          <a:stretch/>
        </p:blipFill>
        <p:spPr>
          <a:xfrm>
            <a:off x="2843280" y="620640"/>
            <a:ext cx="5892840" cy="602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642960" y="142920"/>
            <a:ext cx="764856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5899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ючевые слова и выражения для описания наряда кукл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лы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окош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украшенный рельефным золотым шитьём, а внизу бахромо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ёлкова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ша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расшитая растительным орнаментом из золотых ни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ороткий шерстяной тулу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тулупчик) светло-коричневого цве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арафа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з набивного шёлка нежно – бежевого оттенка, расшитый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о подол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ружевом, алой тесьмой с жёлтыми цвет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93600" y="785880"/>
            <a:ext cx="3121200" cy="46656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3214800" y="642960"/>
            <a:ext cx="5429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ко́шник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 (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др.-рус.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 ко́кошь «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уриц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[ -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старинный русский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овной убор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 в виде гребня (опахала, полумесяц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ли округлого щита) вокруг головы, символ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сского традиционного костюм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алектные варианты названия:  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латоглав и другие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user\Desktop\Тулупчик.jpg"/>
          <p:cNvPicPr/>
          <p:nvPr/>
        </p:nvPicPr>
        <p:blipFill>
          <a:blip r:embed="rId1"/>
          <a:stretch/>
        </p:blipFill>
        <p:spPr>
          <a:xfrm>
            <a:off x="428760" y="214200"/>
            <a:ext cx="3617640" cy="54295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4143240" y="35712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улу́п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 (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олу́п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) — зимняя длинная верхняя мужская и женская одежда свободного покроя, надеваемая дополнительно поверх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фтана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или другой одежды.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57120" y="-360"/>
            <a:ext cx="8329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озиция сочин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80120" indent="-780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тупление (краткий рассказ о куклах на основе жизненного опыт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80120" indent="-780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ая часть (описание куклы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лицо (глаза, губы, нос, щёки, брови, выражение лица, улыб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одежда (тулупчик, кокошник, сарафан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80120" indent="-780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лючение (впечатление от увиденного, чувства, мысли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и о признаке хорошего текста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8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НОСЬ, ЦЕЛОСТНОСТЬ, последова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2T16:41:27Z</dcterms:created>
  <dc:creator>Mech</dc:creator>
  <dc:description/>
  <dc:language>en-US</dc:language>
  <cp:lastModifiedBy>Админ</cp:lastModifiedBy>
  <dcterms:modified xsi:type="dcterms:W3CDTF">2024-11-14T08:31:22Z</dcterms:modified>
  <cp:revision>24</cp:revision>
  <dc:subject/>
  <dc:title>Слайд 1</dc:title>
</cp:coreProperties>
</file>