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7.gif" ContentType="image/gif"/>
  <Override PartName="/ppt/media/image12.gif" ContentType="image/gi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E50-909F-4038-BF45-F48B494F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9D3-C690-4374-A5AE-619093D3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27A-C631-4DFA-BB09-72877670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7F8-F431-4DDD-BB89-3370C9A6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1F5-67DF-42FC-9E92-9DD17446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E5A-AA71-44C0-B967-2226C444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666-EBC0-4087-94C9-7090024A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7F4-9FCB-4D2E-ADA9-F8FFE012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3D2-64B0-4A03-AC69-C3513937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AB1-7A82-4E6B-8C5E-1A452DCC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E55-6AEF-41B3-9A10-88A8ADD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9AA-C5B0-4292-949D-38E7DDFF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7789-6B1C-42F4-BA55-1D750FAED4F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aratakm.narod.ru/index.files/06.htm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66600"/>
            <a:ext cx="8210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дачная формул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ссчитайте массу соли и воды, которые потребуются для приготовления 200г 7% раствора поваренной соли в домашних условиях для промывания носа. Напишите формулу поваренной со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сточник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совой душ позволяет удалить с поверхности слизистой аллергены, патологический секрет с вредоносными микроорганизмами и пы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у вас дома нет весов, то вы должны знать, что в одной чайной ложки примерно содержится 7 грамм с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нструмент провер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читана и указана масса с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читана  и указана масса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на формула поваренной с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ланк для выполнения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о:                                Реш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   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одель отве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о:                                Реш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(р-ра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200г               1. m(соли) = ω×m р-ра =                  200г×0,07 = 14г (2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ɷ(соли) = 7%             2. m(воды) = 200 – 14 = 186г (2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?                    3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варенная соль (2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(соли 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(соли 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14г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186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итерии оцени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5» - 6 баллов; «4» - 5 баллов; «3» - 4 балла; «2» - менее 4 бал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8 класс. Тема «Смеси.Способы разделения смесе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тиму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с классом пошли в многодневный поход. На ночлег остановились у болота. Дежурный поспешил  с приготовлением ужина и рассыпал всю соль.  Поблизости нет источника чистой воды, соль с землей, а есть очень хочется. Что делать? На счастье среди вас есть химик-любитель, который никогда не расстается с учеб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дачная формул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гло(3-5 мин) просмотрите  в учебнике материал §4. Составьте план ваших действий по очистке болотной воды и соли, запишите его в тетрадь в виде табл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сточник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я 8 класс.Г.Е.Рудзитис,Ф.Г.Фельдман «Просвещение» 2019. Параграф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ланк для выполнения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7120" y="32860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1011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есь 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 очис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обходимое оборуд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928800" y="3214800"/>
          <a:ext cx="7500960" cy="1682640"/>
        </p:xfrm>
        <a:graphic>
          <a:graphicData uri="http://schemas.openxmlformats.org/drawingml/2006/table">
            <a:tbl>
              <a:tblPr/>
              <a:tblGrid>
                <a:gridCol w="2239920"/>
                <a:gridCol w="2206440"/>
                <a:gridCol w="3054600"/>
              </a:tblGrid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есь веще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 очис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обходимое оборуд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отная 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льт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пяч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х или вата, бинт, емкость, активированный 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мкость, костер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аренная соль с зем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твор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льт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ари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мк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х или  вата, бинт, емкость, активированный 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мкость, костер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итерии оцени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о названы все способы очистки -5б ( по 1 б за каждый спосо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о названо все оборудование – 13б ( по 1 баллу за  каждый верный отве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о – 18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б – «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-17б – «4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-11б – «3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ее 9 б – «2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Труд школьника должен стать источником умственного удовлетворения и душевной радостью. Учением нужно и можно заниматься  с увлечением, с интересом, а не просто по обязанности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.А.Комен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-36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Химия - одна из самых важных наук. Без ее помощи не могут обойтись ни физики, ни врачи, ни строител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ределите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предмет изучения химии и заполните таблицу, проанализировав источник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.6  и ссылку на сай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aratakm.narod.ru/index.files/06.htm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ереведит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формацию из текстового представления в графическо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" descr="25R"/>
          <p:cNvPicPr/>
          <p:nvPr/>
        </p:nvPicPr>
        <p:blipFill>
          <a:blip r:embed="rId2"/>
          <a:stretch/>
        </p:blipFill>
        <p:spPr>
          <a:xfrm>
            <a:off x="214200" y="2643120"/>
            <a:ext cx="1143000" cy="719280"/>
          </a:xfrm>
          <a:prstGeom prst="rect">
            <a:avLst/>
          </a:prstGeom>
          <a:ln w="0">
            <a:noFill/>
          </a:ln>
        </p:spPr>
      </p:pic>
      <p:pic>
        <p:nvPicPr>
          <p:cNvPr id="87" name="Таблица 4" descr=""/>
          <p:cNvPicPr/>
          <p:nvPr/>
        </p:nvPicPr>
        <p:blipFill>
          <a:blip r:embed="rId3"/>
          <a:stretch/>
        </p:blipFill>
        <p:spPr>
          <a:xfrm>
            <a:off x="530280" y="4462560"/>
            <a:ext cx="836460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143080" y="492912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ещества, их свойства и превра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Таблица 7" descr=""/>
          <p:cNvPicPr/>
          <p:nvPr/>
        </p:nvPicPr>
        <p:blipFill>
          <a:blip r:embed="rId4"/>
          <a:stretch/>
        </p:blipFill>
        <p:spPr>
          <a:xfrm>
            <a:off x="463680" y="3749760"/>
            <a:ext cx="82897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9 класс. Тема «Щелочные металл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тиму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ий – это минеральный элемент, необходимый для нормальной жизнедеятельности клеток живого организма – он является их важной частью. Даже небольшие изменения количества этого элемента в организме могут повлиять на его работу. Калий выводится через почки; если его выводится слишком много, развивается гипокалиемия – нехватка калия, а потом дефиц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дачная формул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 съели 150г кураги и 70г морской капусты. Восполните ли вы суточную потребность калия? Ответ подтвердите расчет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чник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лий – замечательный металл. Замечателен он не только потому, что режется ножом, плавает в воде, вспыхивает на ней со взрывом и горит, окрашивая пламя в фиолетовый цвет. И не только потому, что этот элемент – один из самых активных химически. Все это можно считать естественным, потому что соответствует положению щелочного металла калия в таблице Менделеева. Калий замечателен своей незаменимостью для всего живог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00г кураги содержится 2,034г калия, а в 100г морской капусты  0,97г кал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нструмент провер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ли суточную потребность кал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читали массу калия поступившего в организм из кура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читали массу калия поступившего в организм из морской капус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читали массу калия поступившего в организм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одель от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точная потребность калия 3,5г. (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им сколько поступит в организм калия, если съели 150г кураги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=  = 3,051г  (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Определим сколько поступит в организм калия , если съели 70г морской капусты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=  = 0,679г (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им массу калия поступившего в организм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= 3,051 + 0,679 = 3,73г (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вет: организм восполнится суточной потребностью кал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итерии оцени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5» - 4баллов; «4» - 3 баллов; «3» - 2балла; «2» - менее 2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" descr=""/>
          <p:cNvPicPr/>
          <p:nvPr/>
        </p:nvPicPr>
        <p:blipFill>
          <a:blip r:embed="rId1"/>
          <a:stretch/>
        </p:blipFill>
        <p:spPr>
          <a:xfrm>
            <a:off x="1500120" y="-122400"/>
            <a:ext cx="8650440" cy="65534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2" descr="C:\Users\Любовь Владимировна\Desktop\ДОКУМЕНТЫ\Проекты\Проекты\Коллекция  для  оформления  презентаций\анимашки\bird10-3.gif"/>
          <p:cNvPicPr/>
          <p:nvPr/>
        </p:nvPicPr>
        <p:blipFill>
          <a:blip r:embed="rId2"/>
          <a:stretch/>
        </p:blipFill>
        <p:spPr>
          <a:xfrm>
            <a:off x="-214200" y="0"/>
            <a:ext cx="2828880" cy="2838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1" descr="blest40"/>
          <p:cNvPicPr/>
          <p:nvPr/>
        </p:nvPicPr>
        <p:blipFill>
          <a:blip r:embed="rId3"/>
          <a:stretch/>
        </p:blipFill>
        <p:spPr>
          <a:xfrm rot="2768400">
            <a:off x="101160" y="3319200"/>
            <a:ext cx="2712960" cy="2427480"/>
          </a:xfrm>
          <a:prstGeom prst="rect">
            <a:avLst/>
          </a:prstGeom>
          <a:ln w="0">
            <a:noFill/>
          </a:ln>
        </p:spPr>
      </p:pic>
      <p:pic>
        <p:nvPicPr>
          <p:cNvPr id="106" name="слайд 21" descr=""/>
          <p:cNvPicPr/>
          <p:nvPr/>
        </p:nvPicPr>
        <p:blipFill>
          <a:blip r:embed="rId4"/>
          <a:stretch/>
        </p:blipFill>
        <p:spPr>
          <a:xfrm>
            <a:off x="214200" y="21420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343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97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s://fsd.multiurok.ru/html/2017/01/16/s_587c6a4291042/img_s530152_1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s://ds05.infourok.ru/uploads/ex/0749/000f2278-cc237a05/img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fs00.infourok.ru/images/doc/303/302248/img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s://fs00.infourok.ru/images/doc/192/219293/img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туационные задачи - задания, помещенные в жизненный контекст и содержащие личностно-значимый вопрос, который помогает ученику убедиться в необходимости данного 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туационные задачи – это задачи, позволяющие ученику осваивать интеллектуальные операции последовательно в процессе работы с информацией: ознакомление – понимание – применение – анализ – синтез –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ецифика ситуационной задач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сит ярко выраженный практико-ориентированный характер, но для ее решения необходимо конкретное предметное знание. Зачастую требуется знание нескольких учебных предме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не традиционный номер, а интересное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язательным элементом задачи является проблемный вопрос, который должен быть сформулирован таким образом, чтобы ученику захотелось найти на него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римеры компетентностно-ориентированных  задания по химии 8 класс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.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Тема «Вода. Растворы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714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тимул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ывание носа – это орошение носовой полости водой или специальными растворами для профилактики или лечения некоторых заболеваний. Промывание носовой полости рекомендуют также в качестве профилактики простудных заболев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6:32:50Z</dcterms:created>
  <dc:creator>Елена</dc:creator>
  <dc:description/>
  <dc:language>en-US</dc:language>
  <cp:lastModifiedBy>дом</cp:lastModifiedBy>
  <dcterms:modified xsi:type="dcterms:W3CDTF">2022-04-11T16:12:12Z</dcterms:modified>
  <cp:revision>52</cp:revision>
  <dc:subject/>
  <dc:title>Слайд 1</dc:title>
</cp:coreProperties>
</file>